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78C-D283-4145-A324-E33F825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58F-C6FC-4FC8-BAA6-40F3C13F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7B6-DD36-4F8E-A1F0-9647850A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740-8FC2-4726-A71F-9AA3D3B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EC65-5E69-45FC-9695-4A5247E2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2DFF-E674-49E1-948B-1E69BE19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E2B7-5471-40F9-9CAC-FF1F4BA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87B-168D-463A-B881-0FDDCD7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5E3-A28A-4876-9017-0514144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3F61-B3DA-4654-8320-BB3FF29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3DBF-9C07-4D04-B8B2-46254B5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734-3C98-4E71-AD47-859DE92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D40-9E87-4444-B6EE-42896EF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6E8-B349-420A-9C19-149CC9D2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C8C-7864-4E24-BF9A-DA66271B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2EC0-D7D8-41FD-A0AA-09D5914E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DE43-A7BA-448B-920B-FD0CE340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B10-C66E-46F0-8092-1C9123F7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672-8115-4546-8DC1-75B7AC2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FDA-2C62-45D1-BFE6-FE88B13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E69-4046-4C9D-9452-EBBD7B7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328-4232-409A-82C6-87FD6BAF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D10-67B2-42A2-83C9-0D71BCB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42-949E-4239-8D73-D7C0160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DFD0-DB2B-4640-8987-8B92CBB73A6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91F7-C060-4DC7-9C0A-38D8053EC37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nce, Dance, Danc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essons Every Thursday Nigh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ave Fun and Get Fi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ave two left feet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e will have you on your toes in no ti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ant to lose weight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ancing burns hundreds of calori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ant to meet people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You will have dance partners every n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earn Several Danc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x tro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he classic ballroom danc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epp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rganized rhythmic dance step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atin line danc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ango, salsa-mambo, and merengu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et Your Dancin’ Sho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me to the Gy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7:00 p.m. to 9:00 p.m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ar hard-soled sho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e ready to dance the night away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7T05:44:39Z</dcterms:created>
  <dc:creator>Susan Sebok</dc:creator>
  <dc:description/>
  <dc:language>en-US</dc:language>
  <cp:lastModifiedBy>Lori Jackson</cp:lastModifiedBy>
  <dcterms:modified xsi:type="dcterms:W3CDTF">2003-09-30T18:27:09Z</dcterms:modified>
  <cp:revision>17</cp:revision>
  <dc:subject/>
  <dc:title>PowerPoint Presentation</dc:title>
</cp:coreProperties>
</file>