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F04-46F4-451D-9A21-297F168C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B2F-33F6-41DB-9959-82716A7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91-E484-404A-9F7E-D18925BE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0E7-11C8-4E37-95F7-EDB83C85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E0B-37E7-407D-BAF7-D94F6D80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EDB-974A-4697-9953-575D9D8C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E70C-087F-4195-AA34-C7F7F1B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0FA7-F730-4F76-BB19-A5DEE21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64C-0AA1-4C20-8CFF-58EF750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605-D468-4685-AE84-2C5F2ACD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367-76E6-4319-845B-A3390B8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693-8CF8-42F8-B548-4A5AD19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2D1-F25D-49B4-85A6-203AA4F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BDC-D298-4100-8E0A-5327CA5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6055-9719-4555-B12E-19C07871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EAC4-258A-44A2-8A4C-6DA9AA5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AB3-3D32-4676-9473-A1F52F03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80B-EE70-4314-B3AC-1BE236F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1C5-D53A-49FE-A339-EFCB10F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AB0-EDD8-4812-8154-781C681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052-5AEE-4B56-A5AA-48FF125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A7E-C6E1-454B-BC55-217899D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BCA-67A9-4E19-A443-B950E7B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29B-6FD9-44A8-81C3-49E6F68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085C-D391-4E06-8E28-B73D30005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2B1-FEE8-4B38-A56C-8C246B912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lue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bout the Fl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lu Fa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00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% of the population suffers symptoms ye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y c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 season runs from October through M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ions are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recover in two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vention Techniqu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2424240"/>
            <a:ext cx="3934080" cy="2778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flu shots can help prevent the 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 for high-risk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rugs can shorten the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eneral Health Ti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 hands with warm, soap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 home when 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a balanc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sufficien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 frequ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410080" y="2062080"/>
            <a:ext cx="319104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16:45:04Z</dcterms:created>
  <dc:creator>Susan Sebok</dc:creator>
  <dc:description/>
  <dc:language>en-US</dc:language>
  <cp:lastModifiedBy>Janita Smith</cp:lastModifiedBy>
  <dcterms:modified xsi:type="dcterms:W3CDTF">2001-07-21T17:51:27Z</dcterms:modified>
  <cp:revision>13</cp:revision>
  <dc:subject/>
  <dc:title>PowerPoint Presentation</dc:title>
</cp:coreProperties>
</file>