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F9A-B43A-4436-8D3B-D3614EDE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88E-CE18-4558-BA2B-6ADE59D9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DB5-C8E1-4DEB-8804-EC351047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D67-D7CE-4273-BFDF-E7489BFE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E4E-327B-4C56-B865-D6909D84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D9D-2B30-41D8-8B22-D7B88630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FFF-2F0D-414F-9DA1-7A6EDA60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80A-766A-4C6F-BA25-D225770F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890-0639-4077-99DD-18DD448D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0CC-7C7F-4E12-BC28-2917796D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813-49AA-4D02-85F1-30A3C6D3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49E-6BCD-4134-B54A-0243D6C8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6AD7-60C8-4C1C-8180-DC09ED8AD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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ta Eta Pi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ternity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er Solstice Food D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the Less Fortun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non-perishable foo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s or m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ed vegetables an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cellaneous dry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is ticking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01:03:42Z</dcterms:created>
  <dc:creator>Bill Dorin</dc:creator>
  <dc:description/>
  <dc:language>en-US</dc:language>
  <cp:lastModifiedBy>Malcolm Perkins</cp:lastModifiedBy>
  <dcterms:modified xsi:type="dcterms:W3CDTF">2001-06-22T10:18:37Z</dcterms:modified>
  <cp:revision>5</cp:revision>
  <dc:subject/>
  <dc:title>PowerPoint Presentation</dc:title>
</cp:coreProperties>
</file>