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841-A300-4654-951E-B0F286D6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E8D-E35C-4EA1-807B-23A4C690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943-9609-48A0-828D-02024AC4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79E-D828-4D43-A9C4-F5E4F197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7CC-7E30-4745-94BF-4BA0B318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264-7ECA-4CDA-9F73-1040E80A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7B0-3481-48A3-8A51-8C6E07B9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648-3451-404A-B460-32282E41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6CB-CA6E-47E9-B52F-B7356CAE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8F0-1821-4F17-8B3A-E098F4EF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99F-D540-4BDD-A6E0-6D5FD63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D3D-269B-4753-8228-62C77A9A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A063-A816-4967-9474-FA337140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lge in Intramu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S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llcrest Athletic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letic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xperienc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a new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wards Cerem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quet at Rudy’s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your accomplishments with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wins a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certificates, donations from merch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shirts for all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yours with 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Becky at Extension 234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5:04:09Z</dcterms:created>
  <dc:creator>SS</dc:creator>
  <dc:description/>
  <dc:language>en-US</dc:language>
  <cp:lastModifiedBy>SS</cp:lastModifiedBy>
  <dcterms:modified xsi:type="dcterms:W3CDTF">2001-04-26T17:55:37Z</dcterms:modified>
  <cp:revision>3</cp:revision>
  <dc:subject/>
  <dc:title>Indulge in Intramurals</dc:title>
</cp:coreProperties>
</file>