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0C98-94C1-4376-9CDA-44739EF2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oday are making healthy dietary choices. Nutrient information is found on nearly every food pac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, fats, vitamins, and minerals are important nutrients in a well-balanced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become healthy or unhealthy based solely on food. General health is influenced by heredity, environment, lifestyle, and medical care. We can, however, control our intake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3D7-06F4-4691-8E0E-78CEA238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A43-1FAA-425A-811D-E96FFEC3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F3C-15FA-48E2-A871-9A77ADF7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178-4984-4521-94CC-49C9FA03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24AF-9504-4972-A7E4-EEDF517C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4A3F-C2E6-420D-AF64-FF9AFE4D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BD48-1482-47DF-A019-6FDA343D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A4B-5709-49D5-AE64-90185412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0FCA-7EA3-4F55-8659-D2194B9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D647-9BA0-4742-B940-91D5BF9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A452-2806-4C9B-9D31-7E388DD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62D-9D0A-48E0-9E6D-9BC63579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BA33-9D75-4D0F-87DC-2D4C7EDC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15D-4039-44A6-9B92-8C9CE19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4D40-8343-4D40-A9D2-7CE3F5D3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D751-52C9-45FC-8FC5-DCC581F4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17D-9D3B-4ABB-AEF8-8F683539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356-FBCF-4DE2-944D-1B8B347D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6BD-43F7-471D-8F04-9C4C6E35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479-747A-4CAB-93E9-451C3525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B99-9A07-4642-B043-3CC0B245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AAE-A3BF-4FD2-95C0-35A0C53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D4A-AD55-4DCF-83CC-15B7D452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F5C-B8E4-4585-BAD4-E64A7AF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7A02-F0DB-4D4F-8BC5-D4F2B7096CF4}" type="datetime">
              <a:rPr b="0" lang="en-US" sz="1400" spc="-1" strike="noStrike">
                <a:solidFill>
                  <a:srgbClr val="3399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0B1-F462-488B-AE95-1A6882CEFE93}" type="slidenum">
              <a:rPr b="0" lang="en-US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75D7-8C7C-4651-B35A-E7081EA61A3D}" type="datetime">
              <a:rPr b="0" lang="en-US" sz="1400" spc="-1" strike="noStrike">
                <a:solidFill>
                  <a:srgbClr val="3399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Parkland Wellness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F466-BE2C-44BC-87FA-6AECE40FB16E}" type="slidenum">
              <a:rPr b="0" lang="en-US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ericanheart.org/" TargetMode="External"/><Relationship Id="rId2" Type="http://schemas.openxmlformats.org/officeDocument/2006/relationships/hyperlink" Target="http://www.eatright.org/" TargetMode="External"/><Relationship Id="rId3" Type="http://schemas.openxmlformats.org/officeDocument/2006/relationships/hyperlink" Target="http://www.usda.gov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28600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eel Great by Eating Bett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214200"/>
            <a:ext cx="3747960" cy="260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t Fi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at Better and Feel Gre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5C53-ACD4-4CE5-8DF7-61612872924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146B100-9970-43C1-AEFB-378A0A984A02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9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Improving Our Diets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1295280"/>
          <a:ext cx="77724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7724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4952520"/>
            <a:ext cx="77724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Wellness Institute members are eating bett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urvey says we consume more fruits and grains and fewer fa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t Better and Feel Gre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1EA-A0C2-4A5C-8A48-FD456B3055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B61FA-9D90-488B-AEB1-A9A0285A6E57}" type="datetime1">
              <a:rPr lang="en-US"/>
              <a:t>07/29/26</a:t>
            </a:fld>
          </a:p>
        </p:txBody>
      </p:sp>
    </p:spTree>
  </p:cSld>
  <p:transition spd="slow" advTm="3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8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Aerobic Exercise Burns Calories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0960" y="304920"/>
          <a:ext cx="7900920" cy="60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04920"/>
                    <a:ext cx="7900920" cy="60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t Better and Feel Gre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2C7-C229-4E12-A958-269A1A7298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2EE85-DFA1-4227-A4D2-7D206EA38F08}" type="datetime1">
              <a:rPr lang="en-US"/>
              <a:t>07/29/26</a:t>
            </a:fld>
          </a:p>
        </p:txBody>
      </p:sp>
    </p:spTree>
  </p:cSld>
  <p:transition spd="slow" advTm="3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Nutritious High-Fiber Carbohydrates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8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ccff"/>
              </a:gs>
              <a:gs pos="100000">
                <a:srgbClr val="3c7998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ccff"/>
              </a:gs>
              <a:gs pos="100000">
                <a:srgbClr val="3c7998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990720"/>
          <a:ext cx="607824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607824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t Better and Feel Gre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8D7-6A8E-4E3F-BA93-08ED72A7EE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2F819-6C61-437E-A9CA-0807ED361802}" type="datetime1">
              <a:rPr lang="en-US"/>
              <a:t>07/29/26</a:t>
            </a:fld>
          </a:p>
        </p:txBody>
      </p:sp>
    </p:spTree>
  </p:cSld>
  <p:transition spd="slow" advTm="30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88c3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Next Steps for Wellness Institute Members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btain additional information fr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Monotype Corsiva"/>
                <a:hlinkClick r:id="rId1"/>
              </a:rPr>
              <a:t>American Heart Associ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Monotype Corsiva"/>
                <a:hlinkClick r:id="rId2"/>
              </a:rPr>
              <a:t>American Dietetic Associ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Monotype Corsiva"/>
                <a:hlinkClick r:id="rId3"/>
              </a:rPr>
              <a:t>U.S. Department of Agricultur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ercise at least three times per week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e personal trainers for specific advi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t Better and Feel Gre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51B-AA93-4EF7-B408-899A53720A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3CB29-A6B9-415A-98BE-F46638511265}" type="datetime1">
              <a:rPr lang="en-US"/>
              <a:t>07/29/26</a:t>
            </a:fld>
          </a:p>
        </p:txBody>
      </p:sp>
    </p:spTree>
  </p:cSld>
  <p:transition spd="slow" advTm="12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ita Smith</cp:lastModifiedBy>
  <dcterms:modified xsi:type="dcterms:W3CDTF">2003-12-04T23:06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