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FB6-05B4-43AE-A4F8-5903239C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841-30CD-4965-AB63-E8AA122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09A-FDAC-4C25-B793-E38BCEF5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DC2-D1F8-4788-A11D-1AB100FA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4A0-15D8-4514-B679-CA16ECDE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C10-1C01-4152-9A37-8083E72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99C-7405-4F05-BA84-4BD188B3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F52-1519-4173-B224-3A1E164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B01-DFA9-4DC9-A775-4CE6A50F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2DE-75B7-456F-BC10-2FB734A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478-9BAE-4F6A-A339-2FC5244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BDE-0031-491B-9691-82E5266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78B3-25E1-4132-ACA9-3DFF07C9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ther Side of the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reer in Teachin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nie Simp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ght science and golf at Elm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cycle Safety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lead i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35B-0779-42D2-8495-741B682FDD8F}" type="slidenum">
              <a:t>2</a:t>
            </a:fld>
          </a:p>
        </p:txBody>
      </p:sp>
    </p:spTree>
  </p:cSld>
  <p:transition advTm="1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s and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 gard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more than 25 varieties of l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mers for Habitat volunt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and maintain air condition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53C-43D7-4EBD-8272-C9673924D2B3}" type="slidenum">
              <a:t>3</a:t>
            </a:fld>
          </a:p>
        </p:txBody>
      </p:sp>
    </p:spTree>
  </p:cSld>
  <p:transition advTm="1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cient in Office XP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virtual biology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Fleur Gardens botanic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n national Web site to diagnose and treat insect and fungu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24C-6053-44CF-9EF2-D0BC43273593}" type="slidenum">
              <a:t>4</a:t>
            </a:fld>
          </a:p>
        </p:txBody>
      </p:sp>
    </p:spTree>
  </p:cSld>
  <p:transition advTm="1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15:35:19Z</dcterms:created>
  <dc:creator/>
  <dc:description/>
  <dc:language>en-US</dc:language>
  <cp:lastModifiedBy>SS</cp:lastModifiedBy>
  <dcterms:modified xsi:type="dcterms:W3CDTF">2001-08-07T06:03:25Z</dcterms:modified>
  <cp:revision>5</cp:revision>
  <dc:subject/>
  <dc:title>The Other Side of the Desk</dc:title>
</cp:coreProperties>
</file>