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53A-2DF7-4ED0-BF74-50BC3A5D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E1D-11CC-429B-921A-09DAED90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337-1A53-48AE-82EB-674316A2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FE6-5163-48E0-8EEF-46FE518F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63F5-1246-43CF-8C8E-043C651B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E190-B4AB-4953-A697-2EE4BD02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F72C-D28D-4638-B83D-A1334509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FA17-566C-4CD2-97CE-8F33AD39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F2C2-3DA4-4417-88AA-6D70E302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CEF3-2308-481A-AD48-ECD03C1A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9CEF-18BE-4B5E-AFE5-1DB9E70E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BC1-1901-4B49-9569-D39DEC4E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DB8A-B58B-4344-9320-6B571D08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0BAB-88CF-4CDB-AB21-EDA4C461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6CEF-DFB9-4E1F-9EB3-017C0D64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C2BC-2BD2-436C-8019-2518E69A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937E-9FC8-4571-81E9-F4D91E81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84A-D9A8-4806-9F5F-D2F29135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6F5-F5AC-4B65-A428-1C3F0D71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C3B-6483-46E5-92D1-D8209F6A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3C3-C224-4D03-8D41-146B2D44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762A-22CC-4294-9199-07AE4C80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BAD-9D88-46B3-829D-7C16521F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F9F-F8DB-42DE-B74E-671A37E6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3D84-AA79-447D-8C4A-B8007053CDF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2C9D-8648-4B64-836E-25C87BF2507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ou Can Be a Millionai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ented b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 Centu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ancing Associ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76320" y="3713040"/>
            <a:ext cx="38102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art Saving Toda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llow the 20/80 rule for current inco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ve on 20 perc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ave 80 perc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iminate all deb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egin a savings pl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58680" y="1941480"/>
            <a:ext cx="276552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lance Investment Strateg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14880" y="3352680"/>
            <a:ext cx="4029120" cy="2792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4800600" cy="257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ult with a Financial Plann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rtification is desira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an strategies fo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tire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ax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vestme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bt reductio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08640" y="2584440"/>
            <a:ext cx="4028760" cy="2828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5T21:23:18Z</dcterms:created>
  <dc:creator/>
  <dc:description/>
  <dc:language>en-US</dc:language>
  <cp:lastModifiedBy>SS</cp:lastModifiedBy>
  <dcterms:modified xsi:type="dcterms:W3CDTF">2001-07-21T18:45:59Z</dcterms:modified>
  <cp:revision>29</cp:revision>
  <dc:subject/>
  <dc:title>You Can Be a Millionaire</dc:title>
</cp:coreProperties>
</file>