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12F2-BFA5-4A1B-A768-DE28F521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FD20-2C31-484B-A069-956A077C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E259-696B-40AE-B35C-63EAB05BA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243E-6355-499B-BC5D-4A54D039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A674-D3BB-4600-A19A-DB6E6A17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2A5E-8602-454E-BC0E-0DDA881F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024C-16C5-4064-95C5-36EEBEEE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2FA0-7236-4CC7-B0DE-58721495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8D13-3555-44C9-BBD8-5EC33F34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88FF-EBB6-42AA-999B-A2C8E6FD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19A0-FB70-4DBB-ADDC-502E6556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CF65-0490-4039-BAAF-75CE91C9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2103-6CE0-4616-8EF0-36E06F80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E6D5-5765-44B9-BA26-599A71B9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1201-FCB0-4AB9-9C00-064FCD7A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E081-830B-4294-8511-647A1292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4102-08D0-4851-B5F6-137D2270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3BD4-3513-4EE2-ADAC-F3722218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5AC4-4E9A-4910-88FF-ECFB991A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F7F7-AC7C-4356-99A0-D037504F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3841-CB87-4271-A111-C96634BF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E2AB-6AF1-40FB-9377-39647ED5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7936-1165-4E10-9153-5B32FB6C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EF66-894A-4322-9861-139DA177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886A-81DB-4822-80B9-6659B618F0B2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31ED-3F87-4801-9251-D4B323CE7F1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BBBE-59C2-482C-8FD3-D52A70220611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CBA3-2A38-46A2-808A-92CDD56E669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YI: Do It Yourself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un, Informative Semina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esented by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Yancy’s Home Cent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533520"/>
            <a:ext cx="1524240" cy="1600200"/>
          </a:xfrm>
          <a:custGeom>
            <a:avLst/>
            <a:gdLst>
              <a:gd name="textAreaLeft" fmla="*/ 347760 w 1524240"/>
              <a:gd name="textAreaRight" fmla="*/ 1176480 w 152424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advTm="10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ject and Material Cos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-69840" y="1219320"/>
          <a:ext cx="910440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9840" y="1219320"/>
                    <a:ext cx="910440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ent Nam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5113-4DFD-41A4-A914-63AC0D447AA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CAB0A-95A2-471D-874F-E8BCECE7247A}" type="datetime1">
              <a:rPr lang="en-US"/>
              <a:t>07/29/26</a:t>
            </a:fld>
          </a:p>
        </p:txBody>
      </p:sp>
    </p:spTree>
  </p:cSld>
  <p:transition advTm="15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pcoming Clin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052800" y="1598760"/>
          <a:ext cx="3040200" cy="3662280"/>
        </p:xfrm>
        <a:graphic>
          <a:graphicData uri="http://schemas.openxmlformats.org/drawingml/2006/table">
            <a:tbl>
              <a:tblPr/>
              <a:tblGrid>
                <a:gridCol w="2011320"/>
                <a:gridCol w="1028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Topic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Month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Tiling a Floor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January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Hanging Wallpaper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February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nterior Painting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March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Building a Gazebo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pril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Exterior Painting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May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Hanging Ceiling Fans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June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Exterior Staining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July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Gardening Project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ugust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Holiday Decoration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eptember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Refinishing Cabinet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October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ower Tool Safety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November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Gifts for the Home Owner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December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ent Nam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7D4E-B117-44B8-858E-290C933615B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5F10B-A5D3-49DA-99C2-3262ADBFDF5D}" type="datetime1">
              <a:rPr lang="en-US"/>
              <a:t>07/29/26</a:t>
            </a:fld>
          </a:p>
        </p:txBody>
      </p:sp>
    </p:spTree>
  </p:cSld>
  <p:transition advTm="15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9:21:00Z</dcterms:created>
  <dc:creator>S Sebok</dc:creator>
  <dc:description/>
  <dc:language>en-US</dc:language>
  <cp:lastModifiedBy>SS</cp:lastModifiedBy>
  <dcterms:modified xsi:type="dcterms:W3CDTF">2003-11-27T05:57:57Z</dcterms:modified>
  <cp:revision>17</cp:revision>
  <dc:subject/>
  <dc:title>Career Choice: Computer Programming</dc:title>
</cp:coreProperties>
</file>