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BA3-92C9-4430-B783-0F7BD85D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2FF-76B1-4DAE-A452-21A295AB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281-CBF6-4658-A693-4D9C71E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4B7-FB1E-408E-BD5C-D7BEED2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F8A4-5983-4D2C-A002-D88691B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389-FC20-4E89-9796-5CAFC8E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4A5-04DE-4D72-974D-0F19732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56E-1609-4282-A45A-963331C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22AC-6CAB-43F9-A3C2-60252851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6DF-F703-42DF-BE70-90E34EFB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B2CD-CC52-4EE5-B2A8-9F7ACDE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101-C94E-44A4-9B99-253CCC81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C7C-054A-4E4A-A538-6235AC5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B97-B4D2-4379-963C-A84FDB2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57E-5CD3-49CB-AF51-3364BBB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CB7F-480C-497B-8D98-1BE95460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B81-F6F0-4996-9276-0EF8743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0FA-8AD5-4720-881B-92BF3F3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0BD-E377-4061-A990-F0E0F3A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8BB-5188-480D-81E7-9EBB5CB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33F-0467-4B76-8361-4484C2A6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DB5-D6CB-4D20-9EED-56A326A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C99-94C6-4477-B2A6-7EAB37C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3C2-DDFD-4E0A-AEB9-A5B028C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cfc6"/>
                </a:gs>
                <a:gs pos="50000">
                  <a:srgbClr val="e2ddd4"/>
                </a:gs>
                <a:gs pos="100000">
                  <a:srgbClr val="d3cfc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f0ed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f0ed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4D8-A142-4B48-9C7F-DF1A22E814C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DCD-B7D5-4EDE-9FCC-B280A7FC0E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cfc6"/>
                </a:gs>
                <a:gs pos="50000">
                  <a:srgbClr val="e2ddd4"/>
                </a:gs>
                <a:gs pos="100000">
                  <a:srgbClr val="d3cfc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f0ed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efeb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efebe3"/>
                </a:gs>
                <a:gs pos="100000">
                  <a:srgbClr val="f0ed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9FC-9859-41BA-8A2F-E1FFDB3F02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9D2-FCC6-4699-B3C3-0419494F08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8f8e73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Calumet Triathlon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November 16, 200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Sponsored b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Garamond"/>
              </a:rPr>
              <a:t>Calumet Insura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 kilometer (.62 mil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ycl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5 kilometers (15.5 mil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5 kilometers (3 mil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ward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riathlon winn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st place $10,0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nd place $5,0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rd place $2,50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assification winn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st, 2nd, and 3rd place troph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362320" y="3827520"/>
            <a:ext cx="441936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assificat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under 2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21 - 3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31 - 4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41 - 5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51 - 6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emale 61+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under 2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21 - 3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31 - 4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41 - 5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51 - 60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le 61+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21:32:20Z</dcterms:created>
  <dc:creator/>
  <dc:description/>
  <dc:language>en-US</dc:language>
  <cp:lastModifiedBy>SS</cp:lastModifiedBy>
  <dcterms:modified xsi:type="dcterms:W3CDTF">2003-11-25T22:35:54Z</dcterms:modified>
  <cp:revision>31</cp:revision>
  <dc:subject/>
  <dc:title>Two-State Triathlon</dc:title>
</cp:coreProperties>
</file>