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DC8-900A-47F6-842F-C46BD956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7E2-3CD2-4F5B-8CF5-609826DA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913-8CDC-47E2-BB7C-0F7859FA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B9D-2A1E-4625-99A6-32DB0A82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861-327B-47D7-B639-00C34266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35B-08B1-41A5-891D-C8449FD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2A1-1E3E-4B74-B9FE-A831CA1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2B9-D35A-4C34-A091-58CB0F7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B40-F285-4304-ABE4-54376853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F9E-39A1-46BB-AE6A-FA1B6D4D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08C-7412-4D2A-B59F-9BD2130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D03-41D5-4FB7-ADCD-4B62445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58A2-36A3-4686-9A4E-48DE8F9B1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ommunity Park Distr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ummer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July,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Join Your Friends and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e major league soc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oin a golf 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o 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Visit the z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lax on the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nature pho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20:17:00Z</dcterms:created>
  <dc:creator/>
  <dc:description/>
  <dc:language>en-US</dc:language>
  <cp:lastModifiedBy>SS</cp:lastModifiedBy>
  <dcterms:modified xsi:type="dcterms:W3CDTF">2001-07-21T18:25:11Z</dcterms:modified>
  <cp:revision>19</cp:revision>
  <dc:subject/>
  <dc:title>Community Park District</dc:title>
</cp:coreProperties>
</file>