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hillip Jewel" initials="PJ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<Relationship Id="rId11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3-09-30T13:30:29.837000000" idx="1">
    <p:pos x="10" y="10"/>
    <p:text>I changed the background, added some art, and added a new slide title that I created using WordArt.</p:text>
  </p:cm>
</p:cmLst>
</file>

<file path=ppt/comments/comment2.xml><?xml version="1.0" encoding="utf-8"?>
<p:cmLst xmlns:p="http://schemas.openxmlformats.org/presentationml/2006/main">
  <p:cm authorId="0" dt="2003-09-30T13:30:48.353000000" idx="2">
    <p:pos x="10" y="10"/>
    <p:text>The first second-level paragraph now conforms to the 7 x 7 rule.</p:text>
  </p:cm>
</p:cmLst>
</file>

<file path=ppt/comments/comment4.xml><?xml version="1.0" encoding="utf-8"?>
<p:cmLst xmlns:p="http://schemas.openxmlformats.org/presentationml/2006/main">
  <p:cm authorId="0" dt="2003-09-30T13:31:08.122000000" idx="3">
    <p:pos x="10" y="10"/>
    <p:text>I added a clip to this slide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3DE5-C975-43AD-8DFF-DBAD1FBD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1D81-C4CB-446C-9639-7ECF5D30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842F-2534-44C6-8984-54AB2340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654C-2D35-4FF1-BCCF-36D3730F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17D1-27DB-463D-BD7F-405922F8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3BB7-7222-408F-A8E0-A989BF77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C4AD-96D2-40AE-A86A-C6D3BB9D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3FE8-4FFC-4BDE-950D-C798CD00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4EA7-B325-429E-9114-BD7C8D51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8C18-9936-40C8-86B5-EA614CA2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269A-AC62-46F7-A05E-943962D1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ADED-D3F7-43E5-B208-CF23662E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A1A1-4391-4ECB-AE04-C94C5C32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0E51-C9C0-4FCE-A238-2125DB51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416D-EC31-4C77-8677-B224CD17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2FC5-43AF-43A2-AAF3-7DBC6E7F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2B6B-DDC6-4695-98A6-FE68D5EB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922A-462F-4B2F-A428-1A7B51BA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E001-E174-46CB-9AB0-F5BC1219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C20F-0AA1-43C2-A714-E7F32F55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D0AD-4CFB-48A1-8548-91E28413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E6F3-EF3B-40D7-B9C7-37F7B96F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EFF0-744B-422D-8F62-7A2C2353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917A-635E-42CC-84C6-1070FDF7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DF7F-80BD-4C5C-A9E0-F658FD7E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5A69-61C8-4C5A-A364-360250AF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D4D5-631F-469B-B40B-316ACA93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B6ABD-54B8-41C5-A026-31136D75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4F37A-840E-4FDC-9D8D-73799292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E79FB-1A23-4E25-9161-5A412875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B83E8-805E-4839-B29F-E0B7FCA4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AEFCF-8DF4-49C6-BDD1-89445A4C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B6E37-AE39-44ED-BE14-34EAD915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2057-8715-486F-998E-99B488CF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6F56E-C07A-4592-AD63-EE5A94CB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8226-64CF-4F26-8ADD-70A0A85D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779A7-D8F8-4D39-A951-03326DB3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0A858-1058-4616-A38D-A3F50266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27DE6-6201-4A9B-81B4-A7839489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5DC91-B948-4981-8D50-90E034B5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2E08B-680D-4A7A-8727-7A143BA6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285B8-A5C8-498A-9F56-B34AD84C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95DC-7045-4751-86A6-36707F8E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D6EB-109E-42C6-A7B7-86C5EB63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06D3-8433-41B1-85CD-9A156055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A2A2-1EF4-4CED-BBEB-B52147E1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7D44-6F3C-4A3F-A1E8-5C404816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C1EF-F31F-44CB-9505-7204098F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A0F0-3301-4936-8FDC-21862E965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5D4D-A756-40CD-A6E1-1E568DA4C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6DE6-5A58-46D5-8B32-95D2E69D35C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EF47-5DA1-4FF1-9592-BDDF79A97F2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comments" Target="../comments/commen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210360" y="2819520"/>
            <a:ext cx="2933640" cy="325584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s Every Thursday 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87520" y="914400"/>
            <a:ext cx="809928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Dance, Dance, Dance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ave Fun and Get Fi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two left fe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be dancing the first n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lose we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cing burns hundreds of cal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meet peop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have dance partners every n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rn Several Dan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x tr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ic ballroom 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d rhythmic dance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have a great cardiovascular work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tin line d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go, salsa-mambo, and mere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et Your Dancin’ Sho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to the G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:00 p.m. to 9:00 p.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r hard-soled sh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to dance the night awa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4"/>
          <a:stretch/>
        </p:blipFill>
        <p:spPr>
          <a:xfrm>
            <a:off x="6539040" y="3751200"/>
            <a:ext cx="2528640" cy="310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7T05:44:39Z</dcterms:created>
  <dc:creator>Susan Sebok</dc:creator>
  <dc:description/>
  <dc:language>en-US</dc:language>
  <cp:lastModifiedBy>Phillip Jewel</cp:lastModifiedBy>
  <dcterms:modified xsi:type="dcterms:W3CDTF">2003-09-30T19:15:08Z</dcterms:modified>
  <cp:revision>21</cp:revision>
  <dc:subject/>
  <dc:title>PowerPoint Presentation</dc:title>
</cp:coreProperties>
</file>