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9FCF-2355-4A74-BE07-61638751A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B5A0-D137-4368-887B-2D96ED34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3D83-1480-4D16-8466-6AEF00CFD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28A0-6304-4C7A-92B6-B5AC78979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0751-E1B6-492F-B5E2-0D0B78E3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67B2-B170-4510-BF0E-3B241AFF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0A98-D0EE-4D78-AC8D-DE4531CF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1B7C-60A3-42F6-A19E-E747E32F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87AD-85B7-44C9-9246-E72903E3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191F-8111-4679-AC97-051B64C0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A36E-6FE4-468B-8D73-3B65E621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359E-45F3-4464-ABF3-35D1B40B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8C27-9F18-4BAE-99A1-70428914E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nds in Computer 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and hardware adva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displays the size of stam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 as large as regular moni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ech recog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of hom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1T17:51:27Z</dcterms:created>
  <dc:creator>Susan Sebok</dc:creator>
  <dc:description/>
  <dc:language>en-US</dc:language>
  <cp:lastModifiedBy>SS</cp:lastModifiedBy>
  <dcterms:modified xsi:type="dcterms:W3CDTF">2001-04-26T17:15:41Z</dcterms:modified>
  <cp:revision>4</cp:revision>
  <dc:subject/>
  <dc:title>Trends in Computer Technology</dc:title>
</cp:coreProperties>
</file>