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3EE-AEC2-4EDD-8BC3-9551D1C7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E6-4F3A-4F83-8B61-D298A59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D6E-DB65-47F5-A6C7-4E47058B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021-4336-4F08-AE8C-9375B1A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56BD-A71E-4D45-8469-4BBE448D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AE6E-9BDE-4AB6-8E0F-75723A4B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1988-B078-4684-AD7B-185A872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9BDC-DAD4-4F7A-A243-756D8FC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8643-7B00-4AA3-B40B-7D2303A4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441-155A-453A-B531-B3A3446A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DE0-E734-46DA-93F6-D88AA07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771-ACC4-46A7-8A94-A7CBB52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572-2B0E-4517-BA87-C891EB4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CC2A-FA3A-4EEC-95DF-62B17D4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F33-38E6-4D1B-A199-39584A0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E88C-518A-4393-9FB0-7D8552B1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CA0-3FCA-4215-B965-460B15AE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81D-F9CF-4D78-87F1-D02D7E2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E6B-48FC-4C06-9758-2E95363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874-133B-48DB-8234-65C08A6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C12-EC99-4FE9-9BD5-A98347C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5B5-71EA-4BC5-A8E7-2FA7A1C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4D4-6613-479A-A673-2FAD640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48C-6827-4297-980C-F70F22D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48EE-D8C2-42CD-8F2A-62DB5AE57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C0F9-409A-46C3-92BC-571F6E5A9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se the Internet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o Find a Job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and College Placemen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1800" y="45450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rch Web-Based A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company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obs listed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employmen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your specific skills with companies needing specific project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ens of major job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4062240"/>
            <a:ext cx="3403800" cy="264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Company Inform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usinesses profile their products on their Web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applicants to know this information during an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articles discussing industry trends and key execu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242892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e an Online Re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su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omputer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ancy fonts, graphic elements, and unusual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resume in body of e-mail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-mail recipients will not open mail containing attachmen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4267080"/>
            <a:ext cx="2743200" cy="240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22:55:11Z</dcterms:created>
  <dc:creator>SS</dc:creator>
  <dc:description/>
  <dc:language>en-US</dc:language>
  <cp:lastModifiedBy>SS</cp:lastModifiedBy>
  <dcterms:modified xsi:type="dcterms:W3CDTF">2001-05-23T17:29:31Z</dcterms:modified>
  <cp:revision>22</cp:revision>
  <dc:subject/>
  <dc:title>Use the Internet to Find a Job</dc:title>
</cp:coreProperties>
</file>