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A39-E4BE-4AD9-A652-788A6FB2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F41-D98B-4884-B05E-946AD8A7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C9B-07EE-4C52-887D-B8115A5E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AC6-9CA5-4033-A750-ACCCDC7C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40F5-B005-464B-8D33-17F9316B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18F3-4A1F-4DA7-A83C-1AA7FD6D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FFFB-6DCA-4691-ADB0-F04925F3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5638-0635-44FB-9DBD-5833E21D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874D-7232-49AF-A1BC-A9A3B051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8A5A-D8CF-4BEF-9AFA-F22C3816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6ED0-394C-4C3E-A5F6-4F4F0819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4CC-511E-48C7-875C-2E985DD7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2C60-92AF-40C2-8FDB-26AEEC99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E780-9690-4ADD-A828-33531875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819D-6CF9-486D-8052-76487E6E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3A27-9B56-4074-9B7A-420BFD65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8D59-CCDD-4A15-9F69-D9B42B66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FE9-CC48-480D-B34D-ED4E7D2E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F97-9C64-4FD1-9E50-E20258E1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F0F-DE5B-41CF-A7F5-A576ED6B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A43-A4A6-4E52-9F3B-74992420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51E-7A4D-4BB0-8E73-2721AF36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471-E78D-4D99-8532-AF58EFAA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CD0-7317-4793-B128-24772E2B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DC34-18E2-4DD5-B33C-758B19E4EE2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134D-90AC-4D17-A5E2-9A71EC05289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uying a Car: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oad Ti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 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rade-In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 car’s 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n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 and wax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the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minor repai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oil, fil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quote in wr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21360" y="3429000"/>
            <a:ext cx="4022640" cy="2708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otiating Pr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gotiate price before financ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dealer make the first 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r 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invoice price and cost of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$200- $400 over dealer in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negotiate down from MS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fore Signing the Contra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sure price includes options, t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destination fees, taxes, lic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ay advertising, delivery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uct rebate from price to avoid ta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 vague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all the fine pr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2T14:55:09Z</dcterms:created>
  <dc:creator/>
  <dc:description/>
  <dc:language>en-US</dc:language>
  <cp:lastModifiedBy>SS</cp:lastModifiedBy>
  <dcterms:modified xsi:type="dcterms:W3CDTF">2001-07-21T19:07:40Z</dcterms:modified>
  <cp:revision>19</cp:revision>
  <dc:subject/>
  <dc:title>Buying a Car:  Road Tips</dc:title>
</cp:coreProperties>
</file>